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07F4-F0DD-4D1C-B9FB-4887DBEE3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7E7F-4BB0-4A9E-B442-637FDEEDAC0A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ustomiz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light each category and change it to a specific categ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to each question slide and fill in the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to each answer slide and fill in the Jeopardy answer in question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ample Final Jeopardy is lis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play the game a link back to the Jeopardy board is provided on each answ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F0C5-0E36-42D0-B78B-5473CC7027D4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1251-6FEC-4CE7-8D30-3292A49B9B95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4E3A-8A0F-4F16-A445-D97FA277023D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A873-42E9-4522-9A4B-2A063FDCB1FD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F6A1-E38B-4BA0-9ED6-B848AB4E4E23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8EBA-9C46-4228-9933-3A0F6CD3BFBA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95B9-8373-4A49-AD58-8D92B2FD15C2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4282-F2D0-48CB-8FAC-4A3826A4F249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49F8-F966-4A3E-A9E2-13564FAE2E4F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88B3-F224-48AC-BA48-11DC3C13FE9F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C6A4-8CE8-4242-AD60-12202EF46257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A635-73FE-4E3C-B84A-7A5C0C34BD77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471A-1DBC-459C-9BA3-480388B7A7CB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2BC7-541D-4553-B68F-155441BA19FC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7314-FD79-42A1-B90A-A1A25CE227B8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75F5-6177-4D4E-9E7E-A0485E2AD6B2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F409-C6D8-42E7-B691-F3A0A56D0B0B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E616-1E28-4CB3-8B25-451900BB0938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0D41-48D5-4A5E-8FAD-3FDF415F2D0F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F052-5890-4254-B76F-BEF8B2FAF730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BFA4-8EAE-45DC-B50E-CE16AE67B45D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0D64-9715-42F6-B97A-2F4EAA2F77DA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6D88-07F6-442E-A7A9-0CB96794B842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EB41-B294-44E2-ABCD-449AAB2F3B9B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412B-E610-49C5-A5D0-B579FA740030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8831-D49A-4F7D-8C25-07AD0CED6C26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77E3-5A9C-4391-AF4B-00F4AF9E398C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DF2D-76B7-446E-AD46-65384650CFF5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27AD-DB37-4336-A508-674A7AEC639B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1AB8-0D81-4FC2-80B9-2DE5F8D04F7A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B40C-0C23-4B68-93B3-1EFFC123362B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7D0C-B00E-4A69-8C3A-C42E64BAD065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41D8-8A55-4993-941D-10B6BDFF0AA7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421D-C311-45F5-907A-67FD93835A7C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D812-9BE9-4A2D-B3FB-662FF2996F7F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3886-777D-4AD2-B57C-171057D45729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2FC6-9E5E-4F5A-9330-9FFB56F96FC3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D4E2-76AB-4ACB-940B-ED64CA006B91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A84D-EA8C-4880-BB8C-527DFF0C9E7C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14AE-2FA1-4DAE-A6AD-DD0714BB8158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D3C3-F972-49D6-A54D-88E99C55A219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2597-07C6-4AA4-BFCC-E3A08D921E05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CC60-70D0-42BF-AAC9-99480CD642AA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F954-3976-4320-8FF5-D906E3922B59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4128-8E16-410C-B4E0-B82BE38A36BE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70D5-5423-4FFC-8826-42DD9E0313CE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A4CA-FB29-4BA1-84C0-DE039EFA2D40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2F74-8938-4D2A-B078-F7D36E93409A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5BB9-0C3D-4B40-ADF2-0E6A366CC88E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8847-9421-4F42-8B89-4E7BE1182215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A9BB-2975-475F-A9E9-B874F742DDA0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C62F-D4CA-4319-8B0C-2415780D6FD8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604A-ACBA-4F7C-A517-4D3150E73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6132-092D-40FF-AA6C-8196FD6A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1E20-C89F-44F3-963B-EB16202E8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487C-7D5A-4D74-A747-918A71F95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FD7F-B15C-4480-A4D3-E808CA4CC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C559-C69E-4681-A330-C582AB05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ED4E-D536-4FFD-9FD1-2636DB23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174F3-0B2D-4E42-B851-2116A3B1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99C0F-DCD0-479B-BAAA-CF9ECF7F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AD3FB-DE3C-434C-A03D-04DA47A5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F5D1-7C1D-4CEB-B8FC-689A3EA1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E5AD-B99C-42C0-90CC-EBB1D62E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EDE7-0856-44E4-BE80-07A608F8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78D9-E2E2-4487-A756-145DD947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5D41-CFEC-401B-A573-2D30A40E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FB6D-9633-4014-B4AF-6A379B60E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7681-53A9-4C6E-B5B4-3C62602BA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13A6-3F14-400B-81F3-ED48E0D5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3368-2F8F-4AC6-812F-1C27A9F1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5235-C5F0-45FE-8DC6-892DD9FF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B630-5E19-4F0F-AB99-450121BA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3324-957A-4738-8625-9F16BC55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6AE6-C213-42F9-8D2D-8B770B80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43C0-AFF5-41F4-B4FD-B88445AA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0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FA2F-72CC-48A7-BA75-825560F21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E99B-ED4A-4CD9-BB06-A075E1D742AC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" Target="slide52.xml"/><Relationship Id="rId29" Type="http://schemas.openxmlformats.org/officeDocument/2006/relationships/image" Target="../media/image2.png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608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99cc"/>
                </a:solidFill>
                <a:latin typeface="Tahoma"/>
              </a:rPr>
              <a:t>Jeopardy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7" name="Object 3"/>
          <p:cNvGraphicFramePr/>
          <p:nvPr/>
        </p:nvGraphicFramePr>
        <p:xfrm>
          <a:off x="779400" y="1370160"/>
          <a:ext cx="7748640" cy="50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1370160"/>
                    <a:ext cx="7748640" cy="50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6" name="Rectangle 16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7" name="Rectangle 17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Rectangle 18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Rectangle 19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Rectangle 20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Rectangle 21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Rectangle 22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Rectangle 23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Rectangle 24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5" name="Rectangle 25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6" name="Rectangle 26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Rectangle 27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Rectangle 28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Rectangle 29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Rectangle 30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Rectangle 31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Rectangle 32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Rectangle 33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Text Box 34"/>
          <p:cNvSpPr/>
          <p:nvPr/>
        </p:nvSpPr>
        <p:spPr>
          <a:xfrm>
            <a:off x="6786000" y="6019920"/>
            <a:ext cx="1986840" cy="45972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45" name="jeopdy84.wav" descr=""/>
          <p:cNvPicPr/>
          <p:nvPr/>
        </p:nvPicPr>
        <p:blipFill>
          <a:blip r:embed="rId29"/>
          <a:stretch/>
        </p:blipFill>
        <p:spPr>
          <a:xfrm>
            <a:off x="7010280" y="609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500 Question from C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994680" y="2895480"/>
            <a:ext cx="708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Birth, growth, reproduction and death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500 Answer from C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149480" y="2590920"/>
            <a:ext cx="66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the life cycle of an animal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100 Question from C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584360" y="21016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1375560" y="2590920"/>
            <a:ext cx="63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I am the biggest cause of erosion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100 Answer from C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143000" y="220968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1679400" y="267012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water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200 Question from C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762120" y="2133720"/>
            <a:ext cx="7162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1143000" y="25146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ood is this type of resource because trees grow again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200 Answer from C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1740960" y="2787480"/>
            <a:ext cx="576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a renewable resource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300 Question from C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1432080" y="2635200"/>
            <a:ext cx="565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The breakdown of rocks by wind, water, or other forces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300 Answer from C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2045160" y="2635200"/>
            <a:ext cx="393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weathering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400 Question from C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1436040" y="2787480"/>
            <a:ext cx="51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Plastics are made from me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400 Answer from C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1892880" y="3168720"/>
            <a:ext cx="35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crude oil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9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100 Question from C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380880" y="281952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Times New Roman"/>
              </a:rPr>
              <a:t>	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432080" y="1870200"/>
            <a:ext cx="512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1066680" y="259092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I grow hair, have live births, and nurse my young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500 Question from C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457200" y="175248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1736640" y="3016080"/>
            <a:ext cx="565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I am the layer of the Earth that has melted rock in it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500 Answer from C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2045520" y="2711520"/>
            <a:ext cx="44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the outer core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100 Question from C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914400" y="1981080"/>
            <a:ext cx="6873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1129680" y="1949400"/>
            <a:ext cx="402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A liquid, solid or ga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100 Answer from C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685800" y="1828800"/>
            <a:ext cx="7467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1284840" y="2254320"/>
            <a:ext cx="562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are the states of matter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200 Question from C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838080" y="1828800"/>
            <a:ext cx="6797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1203480" y="2178000"/>
            <a:ext cx="512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My molecules are tightly packed together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200 Answer from C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1523880" y="266688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1130400" y="2406600"/>
            <a:ext cx="31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a solid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300 Question from C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685800" y="2057400"/>
            <a:ext cx="7467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1207080" y="2482920"/>
            <a:ext cx="6831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I am used to measure the how hot or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cold something is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300 Answer from C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838080" y="1905120"/>
            <a:ext cx="685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9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2351160" y="2787480"/>
            <a:ext cx="455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a thermometer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400 Question from C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066680" y="2133720"/>
            <a:ext cx="6553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1355760" y="2635200"/>
            <a:ext cx="63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en heat is applied to a liquid this happens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400 Answer from C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1889280" y="294948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2045520" y="2482920"/>
            <a:ext cx="40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evaporation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100 Answer from C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762120" y="53341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" action="ppaction://hlinksldjump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1508040" y="2556000"/>
            <a:ext cx="557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are mammals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500 Question from C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1066680" y="2286000"/>
            <a:ext cx="6721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1433880" y="2254320"/>
            <a:ext cx="12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Solid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3" name="AutoShape 9"/>
          <p:cNvSpPr/>
          <p:nvPr/>
        </p:nvSpPr>
        <p:spPr>
          <a:xfrm>
            <a:off x="4724280" y="243828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4" name="Text Box 10"/>
          <p:cNvSpPr/>
          <p:nvPr/>
        </p:nvSpPr>
        <p:spPr>
          <a:xfrm>
            <a:off x="3583440" y="2209680"/>
            <a:ext cx="10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Heat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5488920" y="2209680"/>
            <a:ext cx="13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Liquid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6" name="AutoShape 12"/>
          <p:cNvSpPr/>
          <p:nvPr/>
        </p:nvSpPr>
        <p:spPr>
          <a:xfrm>
            <a:off x="2819520" y="2362320"/>
            <a:ext cx="604800" cy="452160"/>
          </a:xfrm>
          <a:prstGeom prst="pi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500 Answer from C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889280" y="294948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1816920" y="2558880"/>
            <a:ext cx="33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melting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100 Question from C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1143000" y="2057400"/>
            <a:ext cx="68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I am our brightest star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100 Answer from C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889280" y="294948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6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1739520" y="2178000"/>
            <a:ext cx="321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the sun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200 Question from C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762120" y="2133720"/>
            <a:ext cx="6949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1130400" y="2558880"/>
            <a:ext cx="460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I have the shortest orbit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200 Answer from C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990720" y="2286000"/>
            <a:ext cx="6797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1510920" y="2787480"/>
            <a:ext cx="348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Mercury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300 Question from C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914400" y="2438280"/>
            <a:ext cx="6797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1355760" y="2863800"/>
            <a:ext cx="641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The red planet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300 Answer from C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1889280" y="294948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2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1317600" y="29638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824760" y="2558880"/>
            <a:ext cx="284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Mars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400 Question from C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1066680" y="2286000"/>
            <a:ext cx="6797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1432080" y="25588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990720" y="24382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Another name for these planets… Mercury, Venus, Earth, Mar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400 Answer from C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609480" y="22096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are the inner planets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1127160" y="27874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200 Question from C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1143000" y="27846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An animal with a backbone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500 Question from C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762120" y="2057400"/>
            <a:ext cx="6797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1510200" y="2711520"/>
            <a:ext cx="614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en Earth passes through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the moon’s shadow, the shadow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blocks our view of the sun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500 Answer from C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609480" y="17524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0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1359720" y="2254320"/>
            <a:ext cx="464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a Solar Eclipse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100 Question from C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914400" y="2057400"/>
            <a:ext cx="6797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1203480" y="2711520"/>
            <a:ext cx="657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I attract iron, steel and a few other materials.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100 Answer from C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1889280" y="294948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0" name="Text Box 7"/>
          <p:cNvSpPr/>
          <p:nvPr/>
        </p:nvSpPr>
        <p:spPr>
          <a:xfrm>
            <a:off x="1131120" y="2178000"/>
            <a:ext cx="35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a magnet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200 Question from C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533520" y="21337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974880" y="2330280"/>
            <a:ext cx="70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After I rub my feet across the carpet, my hair stands straight up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200 Answer from C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1889280" y="294948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6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904680" y="2178000"/>
            <a:ext cx="48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static electricity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300 Question from C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1066680" y="2133720"/>
            <a:ext cx="6645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066680" y="2438280"/>
            <a:ext cx="6705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A battery, a bulb, and wires all connected so that the bulb will light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300 Answer from C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1889280" y="294948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4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1361520" y="2482920"/>
            <a:ext cx="51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a complete circuit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400 Question from C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990720" y="2209680"/>
            <a:ext cx="679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I am the biggest magnet in the world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400 Answer from C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1889280" y="294948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1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3" name="Text Box 7"/>
          <p:cNvSpPr/>
          <p:nvPr/>
        </p:nvSpPr>
        <p:spPr>
          <a:xfrm>
            <a:off x="1207440" y="2406600"/>
            <a:ext cx="35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the Earth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200 Answer from C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457200" y="281952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762120" y="53341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" action="ppaction://hlinksldjump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1736640" y="2708280"/>
            <a:ext cx="5426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1981080" y="312408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are vertebrates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500 Question from C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990720" y="2133720"/>
            <a:ext cx="6568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1219320" y="2438280"/>
            <a:ext cx="499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I am a magnet that can be turned on and off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500 Answer from C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1889280" y="294948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9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1513440" y="2635200"/>
            <a:ext cx="488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an electomagnet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17680" y="449280"/>
            <a:ext cx="85960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nal Jeopard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838080" y="243828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1"/>
          <a:stretch/>
        </p:blipFill>
        <p:spPr>
          <a:xfrm>
            <a:off x="7467480" y="5334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8"/>
          <p:cNvSpPr/>
          <p:nvPr/>
        </p:nvSpPr>
        <p:spPr>
          <a:xfrm>
            <a:off x="990720" y="25146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I am an idea that can be tested by observation and experiments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3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17680" y="-372960"/>
            <a:ext cx="8596080" cy="17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nal Jeopardy Answ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1508040" y="27669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1206720" y="2178000"/>
            <a:ext cx="417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a hypothesis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300 Question from C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838080" y="220968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1600200" y="2819520"/>
            <a:ext cx="6477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990720" y="2438280"/>
            <a:ext cx="725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I survive harsh winters by migrating to a warmer climate.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300 Answer from C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80880" y="2819520"/>
            <a:ext cx="833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Times New Roman"/>
              </a:rPr>
              <a:t>	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974880" y="2403360"/>
            <a:ext cx="580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a monarch butterfly or a bird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400 Question from C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914400" y="1752480"/>
            <a:ext cx="6721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1355760" y="3016080"/>
            <a:ext cx="7102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Calibri"/>
                <a:ea typeface="Times New Roman"/>
              </a:rPr>
              <a:t>This is an adaptation ducks have that helps them move quickly through the water</a:t>
            </a:r>
            <a:r>
              <a:rPr b="0" lang="en-US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400 Answer from C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1131120" y="2330280"/>
            <a:ext cx="437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are webbed feet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03:46:51Z</dcterms:created>
  <dc:creator>Diana Bassi</dc:creator>
  <dc:description/>
  <dc:language>en-US</dc:language>
  <cp:lastModifiedBy> </cp:lastModifiedBy>
  <dcterms:modified xsi:type="dcterms:W3CDTF">2007-03-13T14:55:41Z</dcterms:modified>
  <cp:revision>18</cp:revision>
  <dc:subject/>
  <dc:title>Jeopardy</dc:title>
</cp:coreProperties>
</file>