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E017-703D-4C62-A338-65FC2E59F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90EB-E2FC-4607-903E-00D31876F688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ustomiz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light each category and change it to a specific categ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o each question slide and fill in the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o each answer slide and fill in the Jeopardy answer in question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ample Final Jeopardy is lis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play the game a link back to the Jeopardy board is provided on each answ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DFA5-3CCE-4435-9368-D244937245D4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325F-3CC9-4E38-9F91-C5220AE615CA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196F-B1E6-454F-B100-7AB716D36A91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8827-C1F2-476F-9935-764FC27B68C2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1385-FB51-4C3C-B5C2-45C940F312A0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AC76-DD6E-450F-B379-A649F4FD7F10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F40F-3FE9-4271-A66E-074CDB610AED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057C-5D42-4325-AE3F-7CBE1BDD535F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3E37-1A78-475C-9225-FCA4129F5C6D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F7E1-C40C-4A9B-8519-C3BD81737297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8F39-226E-4EDC-9FF8-6831F3274554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8AD5-D840-4460-80C6-2CBC4AEAD338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BE27-B662-4397-9567-DA8A6F2D90AD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0876-667A-43F7-B0BA-96173B48A83E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18E4-D86B-4D0D-84C9-0F89558714C1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C564-6668-4593-BB9F-C3A11A4DFFE3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A8EA-1D52-4027-8CC2-D24D01C931DE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555F-0F27-422A-806B-1338E734C046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1CC7-C71A-4EC6-B599-0C84C09A4A7C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8E06-21E2-49F9-82F4-488306FDAE12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7441-3CFD-43F1-9EA5-A8943846D2B5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975D-F9DB-41EC-B1E8-EB949AA1EF10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573A-3FA4-43F8-8906-D932D7873D77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8F40-3F5F-4AF9-BAC8-BB583FDC5EDC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76FC-489E-4A39-9F7A-FDF566EC9538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DC63-F92A-438C-B14E-FA1FD75F824B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455E-849D-4308-929E-6D8EA1518557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89B1-AFBA-48A6-B4E4-C8060BBC4755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0691-6160-409A-BE9B-4235E2231936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2F19-E408-4E90-98D8-51BB6FBC8A6D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C918-1ACE-4F1A-AAA3-81883089A221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6D41-A17B-42AE-883A-0C27B49C7A7F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6837-D4D2-4508-AA16-511E81DF3346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4632-5B27-40BD-8881-DB8F29FECA7F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9E6D-14C2-4264-AAA2-36C46B927C8F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20EE-EF20-4CB8-AD69-20B2B2A17860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853C-2487-4EFF-B869-BB16D95C8573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733E-5981-4AA7-BD5B-DB4B010E1E08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B945-61EF-4004-A343-7E8F77C270AE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630B-5D5A-4B8F-AF25-8AE1F57C860D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FADD-2A7F-47B0-B5FC-78299851DF00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D00B-7820-40C2-8921-BFB65E4A0F2A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140B-9CD5-480F-8FFF-DEDAD2447DDF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9636-09F6-4393-AE4B-C39B42BFA924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0F8E-0F1B-4067-B35A-EFD258E78F83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2B14-5750-4C32-A911-8490CB52672B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8E00-8B99-4ED0-9454-5A04E3D88E8F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CC9A-D4CD-4571-AD79-57460C863020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219C-6484-4C2F-BC53-E9CE6A219F55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DA31-CA4E-4D03-AFC7-647B3A3F37E7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3C98-6DCE-46A2-9163-293313F4E492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AC8C-5ECD-4CC1-8A93-116ADD6E458C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D536-DBDB-44FD-87DB-F715C1338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05AA-88B3-4BF8-BEA2-F4C2D3A0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1AF1-527E-4C2F-8D4B-C5AE23F01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51E9-47C6-4612-B4DC-621980E5B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E7AA-C031-402E-A329-90AA6737D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92B4-5DB1-4DFE-B6BE-5DAA54F0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06D2-D977-409D-BF59-6160B348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1EEC-7E7D-439A-933C-7103862B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5633-B62B-4445-9B4E-14BA03A4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A895-42F5-4626-8540-74997C88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4D7D-BE55-4C33-A09C-1237E253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C785-27DC-46C5-9877-B4E1B046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2260-9A77-414E-91F5-063E454C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C733-C879-4E9C-BDFD-90FAA618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4818-5234-4D49-ADD8-424C7E09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0FE3-53B8-4EC6-A3E5-91B79FCE4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F74E-0178-4BAF-984A-315615FA9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81F2-A3C2-40C1-ACFC-01A30E17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F48C-5F17-48B7-8D0B-ECCB78EB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3228-3202-4723-B621-E8792684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FABE-5538-45EB-B1C4-837E5AD8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D93A-052B-4759-9CC4-E20CB2A2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3A47-9B05-40B9-B0B6-AFED4D68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91A6-94EA-4F8E-9041-A9F589B8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EC5B-AA0E-4B0E-A581-6DD6273D6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D920-06A7-4825-A88E-51DEA0A85E1D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image" Target="../media/image2.png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608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99cc"/>
                </a:solidFill>
                <a:latin typeface="Tahoma"/>
              </a:rPr>
              <a:t>Jeopardy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7" name="Object 3"/>
          <p:cNvGraphicFramePr/>
          <p:nvPr/>
        </p:nvGraphicFramePr>
        <p:xfrm>
          <a:off x="779400" y="1370160"/>
          <a:ext cx="7748640" cy="50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1370160"/>
                    <a:ext cx="7748640" cy="50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Rectangle 16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7" name="Rectangle 17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Rectangle 18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Rectangle 19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Rectangle 20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Rectangle 21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Rectangle 22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Rectangle 23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Rectangle 24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Rectangle 26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Rectangle 27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Rectangle 28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Rectangle 29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Rectangle 30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Rectangle 31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Rectangle 32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Rectangle 33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Text Box 34"/>
          <p:cNvSpPr/>
          <p:nvPr/>
        </p:nvSpPr>
        <p:spPr>
          <a:xfrm>
            <a:off x="6786000" y="6019920"/>
            <a:ext cx="1986840" cy="45972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45" name="jeopdy84.wav" descr=""/>
          <p:cNvPicPr/>
          <p:nvPr/>
        </p:nvPicPr>
        <p:blipFill>
          <a:blip r:embed="rId29"/>
          <a:stretch/>
        </p:blipFill>
        <p:spPr>
          <a:xfrm>
            <a:off x="701028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Question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994680" y="2895480"/>
            <a:ext cx="708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Birth, growth, reproduction and death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Answer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149480" y="2590920"/>
            <a:ext cx="66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the life cycle of an animal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Question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584360" y="21016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1375560" y="2590920"/>
            <a:ext cx="63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I am the biggest cause of erosion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Answer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143000" y="220968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1679400" y="267012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water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Question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762120" y="2133720"/>
            <a:ext cx="7162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143000" y="25146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ood is this type of resource because trees grow again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Answer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1740960" y="2787480"/>
            <a:ext cx="576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a renewable resource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Question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432080" y="2635200"/>
            <a:ext cx="565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The breakdown of rocks by wind, water, or other forces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Answer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045160" y="2635200"/>
            <a:ext cx="39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weathering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Question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436040" y="2787480"/>
            <a:ext cx="51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Plastics are made from me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Answer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892880" y="3168720"/>
            <a:ext cx="35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crude oil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Question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80880" y="281952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432080" y="1870200"/>
            <a:ext cx="512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066680" y="259092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I grow hair, have live births, and nurse my young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Question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457200" y="175248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1736640" y="3016080"/>
            <a:ext cx="56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I am the layer of the Earth that has melted rock in it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Answer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2045520" y="2711520"/>
            <a:ext cx="44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the outer core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Question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914400" y="1981080"/>
            <a:ext cx="6873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1129680" y="1949400"/>
            <a:ext cx="40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A liquid, solid or ga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Answer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685800" y="1828800"/>
            <a:ext cx="7467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1284840" y="2254320"/>
            <a:ext cx="562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are the states of matter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Question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838080" y="1828800"/>
            <a:ext cx="6797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1203480" y="2178000"/>
            <a:ext cx="512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My molecules are tightly packed together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Answer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1523880" y="266688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1130400" y="2406600"/>
            <a:ext cx="31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a solid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Question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685800" y="2057400"/>
            <a:ext cx="7467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1207080" y="2482920"/>
            <a:ext cx="6831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I am used to measure the how hot or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cold something is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Answer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838080" y="19051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2351160" y="2787480"/>
            <a:ext cx="455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a thermometer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Question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066680" y="2133720"/>
            <a:ext cx="6553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1355760" y="2635200"/>
            <a:ext cx="63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en heat is applied to a liquid this happens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Answer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889280" y="29494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2045520" y="2482920"/>
            <a:ext cx="40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evaporation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Answer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762120" y="53341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" action="ppaction://hlinksldjump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508040" y="2556000"/>
            <a:ext cx="55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are mammals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Question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066680" y="2286000"/>
            <a:ext cx="6721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1433880" y="225432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Solid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3" name="AutoShape 9"/>
          <p:cNvSpPr/>
          <p:nvPr/>
        </p:nvSpPr>
        <p:spPr>
          <a:xfrm>
            <a:off x="4724280" y="24382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4" name="Text Box 10"/>
          <p:cNvSpPr/>
          <p:nvPr/>
        </p:nvSpPr>
        <p:spPr>
          <a:xfrm>
            <a:off x="3583440" y="2209680"/>
            <a:ext cx="10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Heat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5488920" y="2209680"/>
            <a:ext cx="13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Liquid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6" name="AutoShape 12"/>
          <p:cNvSpPr/>
          <p:nvPr/>
        </p:nvSpPr>
        <p:spPr>
          <a:xfrm>
            <a:off x="2819520" y="2362320"/>
            <a:ext cx="604800" cy="452160"/>
          </a:xfrm>
          <a:prstGeom prst="pi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Answer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889280" y="29494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1816920" y="2558880"/>
            <a:ext cx="33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melting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Question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1143000" y="2057400"/>
            <a:ext cx="68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I am our brightest star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Answer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889280" y="29494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1739520" y="2178000"/>
            <a:ext cx="321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the sun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Question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762120" y="2133720"/>
            <a:ext cx="6949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1130400" y="2558880"/>
            <a:ext cx="460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I have the shortest orbit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Answer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990720" y="2286000"/>
            <a:ext cx="6797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1510920" y="2787480"/>
            <a:ext cx="348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Mercury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Question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914400" y="2438280"/>
            <a:ext cx="6797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1355760" y="2863800"/>
            <a:ext cx="641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The red planet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Answer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1889280" y="29494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2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317600" y="29638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824760" y="2558880"/>
            <a:ext cx="284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Mars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Question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1066680" y="2286000"/>
            <a:ext cx="6797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1432080" y="25588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990720" y="24382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Another name for these planets… Mercury, Venus, Earth, Mar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Answer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609480" y="22096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are the inner planets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1127160" y="27874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Question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143000" y="27846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An animal with a backbone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Question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762120" y="2057400"/>
            <a:ext cx="6797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1510200" y="2711520"/>
            <a:ext cx="614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en Earth passes through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the moon’s shadow, the shadow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blocks our view of the sun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Answer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609480" y="17524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359720" y="2254320"/>
            <a:ext cx="464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a Solar Eclipse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Question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914400" y="2057400"/>
            <a:ext cx="6797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1203480" y="2711520"/>
            <a:ext cx="65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I attract iron, steel and a few other materials.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Answer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889280" y="29494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1131120" y="2178000"/>
            <a:ext cx="35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a magnet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Question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533520" y="21337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974880" y="2330280"/>
            <a:ext cx="70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After I rub my feet across the carpet, my hair stands straight up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Answer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1889280" y="29494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904680" y="2178000"/>
            <a:ext cx="48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static electricity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Question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1066680" y="2133720"/>
            <a:ext cx="6645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066680" y="2438280"/>
            <a:ext cx="670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A battery, a bulb, and wires all connected so that the bulb will light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Answer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1889280" y="29494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4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1361520" y="2482920"/>
            <a:ext cx="51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a complete circuit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Question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990720" y="2209680"/>
            <a:ext cx="679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I am the biggest magnet in the world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Answer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1889280" y="29494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1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3" name="Text Box 7"/>
          <p:cNvSpPr/>
          <p:nvPr/>
        </p:nvSpPr>
        <p:spPr>
          <a:xfrm>
            <a:off x="1207440" y="2406600"/>
            <a:ext cx="35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the Earth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Answer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457200" y="281952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762120" y="53341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" action="ppaction://hlinksldjump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736640" y="2708280"/>
            <a:ext cx="542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1981080" y="31240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are vertebrates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Question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990720" y="2133720"/>
            <a:ext cx="6568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1219320" y="2438280"/>
            <a:ext cx="499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I am a magnet that can be turned on and off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Answer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1889280" y="29494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9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513440" y="2635200"/>
            <a:ext cx="488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an electomagnet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17680" y="449280"/>
            <a:ext cx="85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al Jeopard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838080" y="24382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7467480" y="5334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990720" y="25146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I am an idea that can be tested by observation and experiments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17680" y="-372960"/>
            <a:ext cx="8596080" cy="17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al Jeopardy Answ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508040" y="27669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1206720" y="2178000"/>
            <a:ext cx="41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a hypothesis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Question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838080" y="220968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1600200" y="2819520"/>
            <a:ext cx="6477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990720" y="2438280"/>
            <a:ext cx="725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I survive harsh winters by migrating to a warmer climate.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Answer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80880" y="2819520"/>
            <a:ext cx="833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974880" y="2403360"/>
            <a:ext cx="580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a monarch butterfly or a bird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Question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914400" y="1752480"/>
            <a:ext cx="6721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355760" y="3016080"/>
            <a:ext cx="710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Calibri"/>
                <a:ea typeface="Times New Roman"/>
              </a:rPr>
              <a:t>This is an adaptation ducks have that helps them move quickly through the water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Answer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1131120" y="2330280"/>
            <a:ext cx="437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are webbed feet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03:46:51Z</dcterms:created>
  <dc:creator>Diana Bassi</dc:creator>
  <dc:description/>
  <dc:language>en-US</dc:language>
  <cp:lastModifiedBy> </cp:lastModifiedBy>
  <dcterms:modified xsi:type="dcterms:W3CDTF">2007-03-13T14:55:41Z</dcterms:modified>
  <cp:revision>18</cp:revision>
  <dc:subject/>
  <dc:title>Jeopardy</dc:title>
</cp:coreProperties>
</file>