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412-9F47-4AF8-8919-7674A7BE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219-A11A-47E1-AE77-E1DC91ECB84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7622-D860-4CB7-8E42-17EF407A045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AADC-2B05-48AA-BEBF-69437940820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EBE-BF97-431E-8203-78F1C49D123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C48-72C2-4287-A7F6-0A221BC53AC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67EC-C36F-436B-B75D-8F62DA6AAE7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951C-D655-4967-87AC-83C20A2D479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024B-1981-44F6-938B-BC377C1DC6E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253-193E-4B78-B302-20F095DABD5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67AB-178E-4F38-8B38-28F6E4E3738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2F6B-5921-4479-9797-ABF9DDE3F0D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3C8-63DA-47F9-ADAD-88610FE7CE9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251-6C43-48FC-9433-61CA6F52657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5D9-9B77-4579-BCDD-6D590D81224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3F2-FBBC-46F1-BF12-ED72363A1A6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96C-6628-413C-907B-C816112F541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C60-2B2C-4CD8-9B01-59B7F2063C1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EA52-E228-43D4-88A0-BDE4FE3DD35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560-3DF6-4DA7-B858-785B095477E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0C4C-5219-482A-B47E-B30E931B428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6173-37A5-4CE1-8ABA-A39B8B96504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C53B-3378-4B7B-AB7D-35CEDD9B0FE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908F-7F6F-4E1C-ADCA-FF022BFE9BD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B72-0517-48F2-81AC-F9F056E0FA0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E12-1BE3-45A4-8F7E-886D51F6D0E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8FD8-A2E2-4AD0-A06D-BFFC572EF0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747-D30D-487F-91F3-445A1DBC980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86ED-A683-4528-911B-201EE3798A7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5DA-6F9B-4019-9569-CC5B5401753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DBA-34DE-4CBC-ADDC-E35E3DAA450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5C64-8377-466C-906D-CE5F59EDDD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94A-7709-47A8-9A89-B679EC9A3CA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721D-CB89-4F64-9771-D9615CABB46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C728-1630-4929-AC39-B580FC6410D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7E0-F738-4BAF-AE87-4CFA5DC35D5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238-D95D-4D7E-B339-E64A95E9D96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39F-1479-46D6-ACF7-90C3D6D7321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6232-3FB5-4191-ADD6-BE7DA660F49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70C2-3E67-4854-A1F8-55882BEB50C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B4B-3EC9-48E6-A85A-A5B9D860613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3E35-EACA-4E97-B9F7-B6D7DB9897B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B37-B5E4-4F6B-A0C8-C84D48AF1FD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0E8D-BA9F-4994-AE5D-E2A37EAC68C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2C3-B66E-4A31-A7B9-8E2F693F079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6B2D-EDC3-42F8-BBB9-62694BBFB40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47C-17E2-45FA-9815-B54E8F6FB4C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A07-216C-42EE-94DE-4D01A24AB43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29F2-07C1-426A-B2B9-0B6145EC4A8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6190-0069-4416-B667-B504426E75F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B1C-E099-4A9A-A792-7575856B41C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93B-9175-4284-8B1D-3816639DF2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066-29CA-4F64-8B2A-A8BCC4F4538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92B-B8B3-4C31-818B-077670DF7DA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CCA-EC8E-428C-9383-569142BE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E2A-B313-4969-A8B3-53BF5B34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C04-1139-4CF2-B896-0A5CBAF4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AF4-DDDE-4A51-A910-6EE5307F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9637-ADF3-438E-89D4-1FA77109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B8C1-4D86-4CF2-B4BD-9469625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759-EE8C-498A-86B9-6AE34B1C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A791-F842-451D-B967-4130C31B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58CC-6014-4FC5-9F73-F5E6E02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6A11-A5ED-4C54-9778-5175A836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BE05-1320-415F-B9BE-A2AEA84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684-D4D9-4781-8C39-C431645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6F1-7632-41E5-BE8C-C2B85C5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DCD8-CA1A-4FC2-8A6D-F0E4D20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DD2-B60F-4D33-A007-DD2FDEDC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342-DBAD-4119-B948-1CC2B690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50A0-CFAF-48DE-B44C-8FCD7756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566-55FB-4DAF-B8BF-6CCB77B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B5D-4093-47EB-B042-0D333A82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599-E922-4294-A3F0-B73F581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8A0-0A6C-4BFD-825F-783C3459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1AF-8F59-45F0-A45C-B4827EE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A63-4392-45AC-9564-95B12139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BF4-5897-4B5B-B38C-9BFCD3A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2F98-80B9-4F76-BB84-FC681C5D4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6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7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028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29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0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031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32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3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34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035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6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037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7A77-3D92-48B8-BD40-048DCA0CC3C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54200" y="1370160"/>
          <a:ext cx="7759440" cy="46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370160"/>
                    <a:ext cx="7759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jeopdy84.wav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066680" y="27432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lever is made with a bar that is free to move about this fixed poin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130760" y="294012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fulcrum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36800" y="271152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largest source of natural ligh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143000" y="22096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977760" y="263520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u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62120" y="21337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77680" y="27432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Objects can be easily seen through m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527480" y="236232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ransparen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27160" y="28638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object that gives off its own light is said to b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755720" y="266688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uminou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59320" y="2787480"/>
            <a:ext cx="65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f an object absorbs all light it will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ppear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901800" y="225432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black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80880" y="28195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2254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snow shovel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57200" y="17524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50840" y="24066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bending of light as it passes from one material to the nex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07440" y="286380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refrac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198108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822240" y="2178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127160" y="210168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054800" y="31687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inter, spring, summer, fal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85800" y="1828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054080" y="233028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season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38080" y="18288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283760" y="278748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y water that is in the atmosphe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23880" y="2666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376280" y="228600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precipita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85800" y="20574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2286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ite, puffy clouds that mean fine, sunny wea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38080" y="19051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131120" y="2787480"/>
            <a:ext cx="50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cumulus cloud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66680" y="21337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203480" y="2482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is forms when water on the ground heats up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130760" y="202572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ater vapo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54440" y="187308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lev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228600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31480" y="2482920"/>
            <a:ext cx="69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tudies weather and weather pattern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560" y="2406600"/>
            <a:ext cx="47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eteorologis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143000" y="205740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27160" y="2863800"/>
            <a:ext cx="59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rings water from the ground up to the pla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01800" y="263520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roo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2120" y="2133720"/>
            <a:ext cx="69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66720" y="2438280"/>
            <a:ext cx="68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arries water and food between the roots and lea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990720" y="22860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130760" y="21780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tem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914400" y="24382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ost photosynthesis takes place in this part of the plan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131480" y="2558880"/>
            <a:ext cx="39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leav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066680" y="22860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679760" y="26668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unlight, water, rich soi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09480" y="22096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62960" y="2514600"/>
            <a:ext cx="80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needed to help make a plant grow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07440" y="2940120"/>
            <a:ext cx="73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Nuts and bolts to fasten things toge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76212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66680" y="24382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iss Hestrom wants to collect data on the daily growth of a plant.   She should use this scientific tool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609480" y="17524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054080" y="278748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rul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91440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78840" y="25588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e are found in sedimentary rock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053720" y="225432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fossil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74880" y="2711520"/>
            <a:ext cx="64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lor, luster, hardness, texture, and streak col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822240" y="26352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ests for identifying a rock or minera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066680" y="2133720"/>
            <a:ext cx="664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8120" y="263520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ade up of two or more mineral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679400" y="251460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rock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90720" y="220968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69960" y="24066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Hot, liquid rock that has been exposed to the surfac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978120" y="233028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ava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815840" y="255888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crew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990720" y="2133720"/>
            <a:ext cx="656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822240" y="2406600"/>
            <a:ext cx="71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continuous changes that go on with igneous, sedimentary, and metamorphic rock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826920" y="240660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rock cycl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838080" y="2438280"/>
            <a:ext cx="742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8"/>
          <p:cNvSpPr/>
          <p:nvPr/>
        </p:nvSpPr>
        <p:spPr>
          <a:xfrm>
            <a:off x="1054800" y="2635200"/>
            <a:ext cx="55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e are responsible for fligh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05160" y="3016080"/>
            <a:ext cx="69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are Orville and Wilbur Wrigh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38080" y="22096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206360" y="248292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axe for splitting log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2819520"/>
            <a:ext cx="83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78120" y="286380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wedg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4400" y="175248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19320" y="26668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machine made with a rope, belt or chain wrapped around a grooved whee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511640" y="240660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pulle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03:46:51Z</dcterms:created>
  <dc:creator>Diana Bassi</dc:creator>
  <dc:description/>
  <dc:language>en-US</dc:language>
  <cp:lastModifiedBy> </cp:lastModifiedBy>
  <dcterms:modified xsi:type="dcterms:W3CDTF">2007-03-02T20:21:50Z</dcterms:modified>
  <cp:revision>18</cp:revision>
  <dc:subject/>
  <dc:title>Jeopardy</dc:title>
</cp:coreProperties>
</file>