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8432-3941-4CEF-A20F-6FF653EC2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0DB9-253A-48FF-AC9C-A7A1A625F53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ustomiz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each category and change it to a specific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question slide and fill in th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answer slide and fill in the Jeopardy answer in ques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Final Jeopardy is l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play the game a link back to the Jeopardy board is provided on each answ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AB52-8C42-4EBC-90A2-4159C0DC36D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2E41-49EB-4C8F-9047-868AD867DA1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FFEC-DAF9-419F-A898-18A82014A82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305-3841-43ED-AF84-736FDCB559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2978-B73A-46F5-A608-EA702F496E9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8236-8A84-4A62-9023-881AF7FA957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D405-6A93-4BF2-BE5A-190AB193BBC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2E68-0A80-4D68-BA21-C8457443DE0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A470-211F-4E9A-932C-D35F054BD08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556-CF69-4806-B4AB-19D7BC364A6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0D9B-CB03-497D-8EA3-AE426ACBDA8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8DCE-FAD6-4DD4-8C12-59D266AB96C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713E-6E98-463F-98A8-61DDB1F6864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1928-9C6E-4747-AA53-84038AE579C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579-2812-44A1-8E44-14A6DCAC82C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815-F7D5-4BF7-BB19-368CF389A7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D4DC-8D06-45CE-8226-7C165FBF011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ED3D-0A14-4FB8-8719-C0D4DD92BF9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7319-C542-4F38-877F-5C32E2A50E0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C7D1-28B7-470A-BF54-4ECC93F12E2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7BE-8953-4416-BB24-44C660CEAAB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F1D2-15E2-4ACD-873F-5FA019FF700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F4E-10C7-42F9-8933-39482BBC323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CCF7-BB46-4083-9075-8C15E9BB909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237-962F-4FCF-88BA-F49072EA80F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9C8-458C-4BD3-8335-0727D60E5FF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BBF-63D6-4BED-8B09-441AA88A828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2EB4-25DC-4261-9A5D-BE4C50FAA65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45C-A08F-4204-8B2B-122F0A3544F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60B0-78FB-48AA-A7FE-09902C0B26E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2AC-DFB2-488B-9F53-5DA75689862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9F3-C792-4D75-AFEF-52B05BC58B2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0C58-F29F-45A9-B96E-D7FF9748539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819C-5928-4168-8E2D-ED94DEA5191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24F1-27BD-408F-B742-152EE533649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32FB-D011-4AA7-B179-6B5D71C6B1A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344-116F-4DEA-9F26-907E2675706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9E4B-19B2-4DCA-A1C9-FF70BCD896B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4D55-B023-4420-893F-1F5243DF77D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89F-866F-4144-B134-1E8CAAAC3BB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B619-59E5-4F62-AB73-041DB9C9E86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A7CC-1148-45FF-B12E-DC914D6F290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236A-0274-4D80-992F-E176EF09257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C60-FC80-4B25-AC6B-BF64A30323A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07D-9545-449D-B4E9-40DE783F6C0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2D3A-1D62-441A-A412-3D9DD153D7B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6842-96CD-46CD-907C-A1080858B01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F1BC-5C8B-4917-8E12-8D7765B24A8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2CF9-031F-4076-90D4-34E66E542EE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5D22-DE13-4ADC-9787-728D81DB223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A52F-CEDE-48AF-95CC-DDFB1D8AA3D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974-81EB-4FB9-A092-AB19694DE43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A17-742D-46FA-BA6B-C9EBD15F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255-9689-43B0-98F3-ED1D89BB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BBA-55A4-459F-926F-18D041A3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842-2C28-4068-9828-68D65FB6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4A21-F2B7-4C10-8651-F07FD50C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8636-6B16-4EE3-ACFE-6A48DDD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971-B119-412D-B200-BD667F5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D14C-70CF-4F16-B297-45EEE4F8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F050-8746-4BB8-BD19-D2CB10A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27D0-605A-471A-9003-E67557B3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0FEC-6726-470F-B385-3322B21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3FC-901B-4E73-80DA-DFC781D3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7AFD-95DD-43D1-B1E8-3F03402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7B74-1D81-4130-9927-7C08E23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2A7E-0C92-4378-BD61-4F0B1440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2D47-257D-462C-9944-BC119DB7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EEB3-6E12-43F4-B5C6-34D71064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8C7-EE0F-4CC4-837E-481A79B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9A7-921A-46D8-AFA4-FD0AEF8D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6E4-5F29-4F1C-A3C7-015603B2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FAC-2B11-4887-8F22-3BCC6819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46F-6806-4074-886A-2BDA2FA1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D32-771F-4710-8C8C-DCDC65F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305-38D1-41B8-863C-033FF45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A8C-3C0F-4576-BCE7-EC5AB2106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026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1027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1028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1029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1030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1031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32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033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34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035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036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037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1D01-DC83-4511-8686-380102BE7E0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cc"/>
                </a:solidFill>
                <a:latin typeface="Tahoma"/>
              </a:rPr>
              <a:t>Jeopar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54200" y="1370160"/>
          <a:ext cx="7759440" cy="46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370160"/>
                    <a:ext cx="775944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786000" y="6019920"/>
            <a:ext cx="19868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jeopdy84.wav" descr=""/>
          <p:cNvPicPr/>
          <p:nvPr/>
        </p:nvPicPr>
        <p:blipFill>
          <a:blip r:embed="rId29"/>
          <a:stretch/>
        </p:blipFill>
        <p:spPr>
          <a:xfrm>
            <a:off x="7010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066680" y="27432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lever is made with a bar that is free to move about this fixed poin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130760" y="2940120"/>
            <a:ext cx="36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fulcrum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36800" y="271152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largest source of natural ligh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143000" y="22096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977760" y="2635200"/>
            <a:ext cx="32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u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62120" y="213372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877680" y="27432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Objects can be easily seen through m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527480" y="2362320"/>
            <a:ext cx="39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ransparen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127160" y="286380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 object that gives off its own light is said to be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755720" y="266688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luminou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59320" y="2787480"/>
            <a:ext cx="65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f an object absorbs all light it will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ppear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901800" y="225432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black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80880" y="28195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22543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snow shovel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57200" y="17524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50840" y="24066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bending of light as it passes from one material to the nex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207440" y="286380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refrac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14400" y="1981080"/>
            <a:ext cx="687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822240" y="2178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127160" y="2101680"/>
            <a:ext cx="115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054800" y="31687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inter, spring, summer, fal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85800" y="1828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054080" y="2330280"/>
            <a:ext cx="42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season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38080" y="18288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283760" y="2787480"/>
            <a:ext cx="66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y water that is in the atmospher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523880" y="2666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376280" y="2286000"/>
            <a:ext cx="42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precipita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85800" y="20574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38080" y="22860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ite, puffy clouds that mean fine, sunny weath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38080" y="19051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131120" y="2787480"/>
            <a:ext cx="50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cumulus cloud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66680" y="213372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203480" y="2482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is forms when water on the ground heats up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130760" y="202572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water vapo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54440" y="187308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lev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228600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131480" y="2482920"/>
            <a:ext cx="69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tudies weather and weather pattern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560" y="2406600"/>
            <a:ext cx="47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meteorologis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143000" y="2057400"/>
            <a:ext cx="687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27160" y="2863800"/>
            <a:ext cx="59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Brings water from the ground up to the plan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01800" y="263520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root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62120" y="2133720"/>
            <a:ext cx="694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66720" y="2438280"/>
            <a:ext cx="68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arries water and food between the roots and lea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990720" y="22860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130760" y="217800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tem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914400" y="24382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ost photosynthesis takes place in this part of the plan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131480" y="2558880"/>
            <a:ext cx="39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leave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066680" y="22860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679760" y="266688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unlight, water, rich soi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09480" y="22096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62960" y="2514600"/>
            <a:ext cx="80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needed to help make a plant grow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07440" y="2940120"/>
            <a:ext cx="73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Nuts and bolts to fasten things togeth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76212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66680" y="24382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iss Hestrom wants to collect data on the daily growth of a plant.   She should use this scientific tool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609480" y="17524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054080" y="278748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rul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91440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978840" y="25588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e are found in sedimentary rock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053720" y="225432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fossil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74880" y="2711520"/>
            <a:ext cx="64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olor, luster, hardness, texture, and streak colo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822240" y="263520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ests for identifying a rock or mineral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066680" y="2133720"/>
            <a:ext cx="664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8120" y="263520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ade up of two or more minerals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679400" y="251460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rock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90720" y="220968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69960" y="24066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Hot, liquid rock that has been exposed to the surfac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978120" y="233028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lava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28195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815840" y="255888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screw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990720" y="2133720"/>
            <a:ext cx="656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822240" y="2406600"/>
            <a:ext cx="710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continuous changes that go on with igneous, sedimentary, and metamorphic rock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826920" y="2406600"/>
            <a:ext cx="44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rock cycl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7680" y="44928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838080" y="2438280"/>
            <a:ext cx="742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8"/>
          <p:cNvSpPr/>
          <p:nvPr/>
        </p:nvSpPr>
        <p:spPr>
          <a:xfrm>
            <a:off x="1054800" y="2635200"/>
            <a:ext cx="55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e are responsible for fligh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7680" y="-372960"/>
            <a:ext cx="859608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 Ans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508040" y="2766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605160" y="3016080"/>
            <a:ext cx="69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are Orville and Wilbur Wrigh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38080" y="22096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206360" y="248292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 axe for splitting log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2819520"/>
            <a:ext cx="83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78120" y="286380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wedg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14400" y="175248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19320" y="26668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machine made with a rope, belt or chain wrapped around a grooved whee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511640" y="2406600"/>
            <a:ext cx="33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pulle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03:46:51Z</dcterms:created>
  <dc:creator>Diana Bassi</dc:creator>
  <dc:description/>
  <dc:language>en-US</dc:language>
  <cp:lastModifiedBy> </cp:lastModifiedBy>
  <dcterms:modified xsi:type="dcterms:W3CDTF">2007-03-02T20:21:50Z</dcterms:modified>
  <cp:revision>18</cp:revision>
  <dc:subject/>
  <dc:title>Jeopardy</dc:title>
</cp:coreProperties>
</file>