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CC6F-DB97-4818-89C8-4DC1D0A7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nd highlight the Category, then type in your ow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198-AC7A-4784-8BB7-ACAE28E5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A05-448D-4E21-BB80-3DA9117C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A2A-7975-4E94-A761-8D5A1EE6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7AD-9AE8-4F60-8E2D-6140699F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0EF8-F16C-4287-888D-63E3215A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2F0C-0D73-4859-97EF-EA4B075C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9ACC-A2E2-4C84-B8B2-0C328702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7C86-BCCB-4B45-8253-A001C1BE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4F38-0257-4023-ACE7-27AAB10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9C3A-C5DC-41E2-9B3A-A6BF5D7D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DAE6-C31E-463C-9095-C94DA3C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0D4-C3B8-465E-A0DA-C1ABB0C3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1463-8E47-4103-9BAB-D0D484C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1EAC-7C50-429F-B543-E8AD14CE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C923-04ED-46BE-95A4-E59E19E7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799A-D9F8-4F68-92DF-E3260D50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8768-1443-4280-98EF-2126922D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747-0505-457F-8213-3930FD0B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65B-2C45-4ECF-AA49-A10CF59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E69-8B0F-4FEF-A5D6-70F890A2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3B0-EBBC-4BC9-802A-8203A76A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FF3-6A23-4998-B6E5-BAB9DFF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263-48AF-4292-8834-53872AD3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6FC-0B10-42B8-9141-A7DC919A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08F4-F6BA-4747-AD4C-A9208D26207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E3BA-7DBF-4097-9EEA-C0652EE3ED1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CKY%20BUILD%20UP.WAV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13.xml"/><Relationship Id="rId11" Type="http://schemas.openxmlformats.org/officeDocument/2006/relationships/slide" Target="slide6.xml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629400"/>
          </a:xfrm>
          <a:custGeom>
            <a:avLst/>
            <a:gdLst>
              <a:gd name="textAreaLeft" fmla="*/ 429480 w 9144000"/>
              <a:gd name="textAreaRight" fmla="*/ 8714520 w 914400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9793" h="21600">
                <a:moveTo>
                  <a:pt x="0" y="0"/>
                </a:moveTo>
                <a:lnTo>
                  <a:pt x="29793" y="0"/>
                </a:lnTo>
                <a:lnTo>
                  <a:pt x="29793" y="21600"/>
                </a:lnTo>
                <a:lnTo>
                  <a:pt x="0" y="21600"/>
                </a:lnTo>
                <a:close/>
              </a:path>
              <a:path fill="lightenLess" w="29793" h="21600">
                <a:moveTo>
                  <a:pt x="0" y="0"/>
                </a:moveTo>
                <a:lnTo>
                  <a:pt x="29793" y="0"/>
                </a:lnTo>
                <a:lnTo>
                  <a:pt x="28393" y="1400"/>
                </a:lnTo>
                <a:lnTo>
                  <a:pt x="1400" y="1400"/>
                </a:lnTo>
                <a:close/>
              </a:path>
              <a:path fill="darken" w="29793" h="21600">
                <a:moveTo>
                  <a:pt x="29793" y="0"/>
                </a:moveTo>
                <a:lnTo>
                  <a:pt x="29793" y="21600"/>
                </a:lnTo>
                <a:lnTo>
                  <a:pt x="28393" y="20200"/>
                </a:lnTo>
                <a:lnTo>
                  <a:pt x="28393" y="1400"/>
                </a:lnTo>
                <a:close/>
              </a:path>
              <a:path fill="darkenLess" w="29793" h="21600">
                <a:moveTo>
                  <a:pt x="29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3" y="20200"/>
                </a:lnTo>
                <a:close/>
              </a:path>
              <a:path fill="lighten" w="29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1752480"/>
            <a:ext cx="6400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"/>
              </a:rPr>
              <a:t>Jeopard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5eb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429000" y="3352680"/>
            <a:ext cx="5176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ody System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by which cells use oxygen and give off carbon dioxi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3510360" y="685800"/>
            <a:ext cx="53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cellular respi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rgan that removes wastes from the body like salt, water, and wastes in the bloo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5185080" y="685800"/>
            <a:ext cx="34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kidn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gan that regulates body temperatu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6174720" y="68580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k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gan that stores uri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4880880" y="685800"/>
            <a:ext cx="39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bladd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gan that is part of both the respiratory system and the excretory sy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4956840" y="68580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lu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ine prescribed by a doctor that cures infections caused by bacter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4805280" y="6858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antibiot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of germs that can grow only inside a cell and can cause disea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5641560" y="685800"/>
            <a:ext cx="31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vir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celled living things that grow just about everywhere and can cause diseas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4" name=""/>
          <p:cNvSpPr/>
          <p:nvPr/>
        </p:nvSpPr>
        <p:spPr>
          <a:xfrm>
            <a:off x="5262480" y="68580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s made by certain body cells that can help destroy germs in the bod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/>
          <p:nvPr/>
        </p:nvSpPr>
        <p:spPr>
          <a:xfrm>
            <a:off x="4119120" y="762120"/>
            <a:ext cx="40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antibod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dy system that rids the body of harmful wastes produced by the cel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3128400" y="762120"/>
            <a:ext cx="56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excretory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52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382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6095880"/>
            <a:ext cx="304776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876c"/>
                </a:solidFill>
                <a:uFillTx/>
                <a:latin typeface="Times New Roman"/>
                <a:hlinkClick r:id="rId1" action="ppaction://hlinksldjump"/>
              </a:rPr>
              <a:t>Final Jeopardy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533520"/>
          <a:ext cx="7925040" cy="5181480"/>
        </p:xfrm>
        <a:graphic>
          <a:graphicData uri="http://schemas.openxmlformats.org/drawingml/2006/table">
            <a:tbl>
              <a:tblPr/>
              <a:tblGrid>
                <a:gridCol w="1584360"/>
                <a:gridCol w="1586160"/>
                <a:gridCol w="1584000"/>
                <a:gridCol w="1586160"/>
                <a:gridCol w="1584360"/>
              </a:tblGrid>
              <a:tr h="103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Circulatory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Respiratory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Excretory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Immune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General Sys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3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4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5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9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10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11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d4876c"/>
                          </a:solidFill>
                          <a:uFillTx/>
                          <a:latin typeface="Arial Narrow"/>
                          <a:hlinkClick r:id="rId1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5eb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dy system made up of the heart, blood vessels, and the bloo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3205440" y="685800"/>
            <a:ext cx="59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dy system that destroys ger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3433320" y="685800"/>
            <a:ext cx="54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immune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78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dy system that brings oxygen into the body and eliminates carbon dioxide from the bod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3198240" y="685800"/>
            <a:ext cx="59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things you need daily to keep the body functioning proper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14600" y="762120"/>
            <a:ext cx="605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inal Jeopardy Ques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0384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diet, sleep, and exerc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001000" y="31240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001000" y="31240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077320" y="3124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upper chamber of the hea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261760" y="685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atriu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vessels that carry blood away from the hea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338080" y="7621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arter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 parts in the blood that carry oxygen from the lungs to body cel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4042800" y="685800"/>
            <a:ext cx="48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4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blood cells, white blood cells, platelets, and plasm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449440" y="68580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components of bloo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1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me-shaped muscle that separates the chest from the stomach are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4652280" y="6858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diaphrag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2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e made up of cartilage that connects the throat to the lungs; also called the windpip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4957200" y="685800"/>
            <a:ext cx="38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trach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0 Point Ques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2120" y="45720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62120" y="380880"/>
            <a:ext cx="37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109120" y="6858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air sa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rcRect l="45288" t="31255" r="8627" b="35379"/>
          <a:stretch/>
        </p:blipFill>
        <p:spPr>
          <a:xfrm>
            <a:off x="7467480" y="5867280"/>
            <a:ext cx="1521000" cy="825480"/>
          </a:xfrm>
          <a:prstGeom prst="rect">
            <a:avLst/>
          </a:prstGeom>
          <a:ln cap="sq" w="22320">
            <a:solidFill>
              <a:srgbClr val="ffff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7162920" y="5486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to the Gam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4382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rbs oxygen through its thin wall and passes it along to the capill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17:01:20Z</dcterms:created>
  <dc:creator>Rick McCaw</dc:creator>
  <dc:description/>
  <dc:language>en-US</dc:language>
  <cp:lastModifiedBy>vandlaj</cp:lastModifiedBy>
  <dcterms:modified xsi:type="dcterms:W3CDTF">2005-04-27T18:05:51Z</dcterms:modified>
  <cp:revision>52</cp:revision>
  <dc:subject>Powerpoint Games</dc:subject>
  <dc:title>20 Square Template</dc:title>
</cp:coreProperties>
</file>