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10.png" ContentType="image/png"/>
  <Override PartName="/ppt/media/image6.jpeg" ContentType="image/jpeg"/>
  <Override PartName="/ppt/media/image11.png" ContentType="image/png"/>
  <Override PartName="/ppt/media/image7.jpeg" ContentType="image/jpeg"/>
  <Override PartName="/ppt/media/image17.wmf" ContentType="image/x-wmf"/>
  <Override PartName="/ppt/media/image16.png" ContentType="image/png"/>
  <Override PartName="/ppt/media/image15.png" ContentType="image/png"/>
  <Override PartName="/ppt/media/image14.wmf" ContentType="image/x-wmf"/>
  <Override PartName="/ppt/media/image9.wmf" ContentType="image/x-wmf"/>
  <Override PartName="/ppt/media/image1.png" ContentType="image/png"/>
  <Override PartName="/ppt/media/image5.jpeg" ContentType="image/jpeg"/>
  <Override PartName="/ppt/media/image18.wmf" ContentType="image/x-wmf"/>
  <Override PartName="/ppt/media/image3.png" ContentType="image/png"/>
  <Override PartName="/ppt/media/image2.png" ContentType="image/png"/>
  <Override PartName="/ppt/media/image4.jpeg" ContentType="image/jpeg"/>
  <Override PartName="/ppt/media/image8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4EC8F-8F69-4132-A181-8F9D7F048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B79A9-3F40-4BC7-965D-D86B78C6B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3BC26-E720-4EA3-A7CA-A1BD26EA7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C2E73-666D-49E8-917E-303D36052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CAB61-E59D-425D-953A-1BE7296AE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4EFAE-4300-4A8D-8775-10FF7EC2A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CE5D1-A9C2-48FE-A7E2-C8BD9AD1F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DA905-8837-43D5-BA0B-5B03170BE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B6F0C-95C9-47A5-83B0-42C738C0F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D968E-7B9D-415C-B1C0-6D46A3883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6A12F-580F-43F6-A2F6-12FD38E14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C6BF8-66B8-449F-9320-3C96FF42C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09A23-98FA-4D19-BB23-771481EE2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0A554-0753-4AB9-BC15-C4489ADF4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6C7F8-907F-4AB9-BBE4-0C4511421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EE3FF-7099-4661-A7B7-B5942700A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07ED0-3D26-40C0-9451-F7394FCE9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C1936-9E10-4E24-979A-D4D8CAD2E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07042-2854-41FC-AF52-4B0B59A95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41F54-BBB2-413F-8B0D-34B100A14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0BDB0-0306-4263-9915-01DDD683B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0C402-52B7-4967-B7DA-9E94C3A20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231B6-EFEC-44AF-8634-C9642C775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7D060-E5DA-4B22-BF30-D4BF81E3B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21C36-F56A-4BCB-A839-C57099C70D5E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B178A-7255-4A99-8C5A-5AA70DFEA0A4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7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8.wmf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mathworld.wolfram.com/Ellipse.html" TargetMode="Externa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-381240" y="533160"/>
            <a:ext cx="9829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660066"/>
                </a:solidFill>
                <a:latin typeface="Broadway"/>
              </a:rPr>
              <a:t>THE CONIC SECTIONS</a:t>
            </a:r>
            <a:endParaRPr b="0" lang="en-US" sz="6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0" y="6095880"/>
            <a:ext cx="91440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IRCLES - PARABOLAS – ELLIPSES -  HYPERBOLA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1447920" y="1828800"/>
            <a:ext cx="6095880" cy="41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210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210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2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31320" y="304920"/>
            <a:ext cx="9152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60066"/>
                </a:solidFill>
                <a:latin typeface="Georgia"/>
              </a:rPr>
              <a:t>MORE ON HYPERBOLAS . . .</a:t>
            </a:r>
            <a:endParaRPr b="0" lang="en-US" sz="5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762120" y="1676520"/>
            <a:ext cx="761976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 hyperbola is defined as the set of all points such that the difference between the distances from the point to each of the two fixed points (foci) is constant.</a:t>
            </a:r>
            <a:r>
              <a:rPr b="0" lang="en-US" sz="40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56" name="g-hypx" descr=""/>
          <p:cNvPicPr/>
          <p:nvPr/>
        </p:nvPicPr>
        <p:blipFill>
          <a:blip r:embed="rId1"/>
          <a:stretch/>
        </p:blipFill>
        <p:spPr>
          <a:xfrm>
            <a:off x="685800" y="3048120"/>
            <a:ext cx="2133720" cy="1877760"/>
          </a:xfrm>
          <a:prstGeom prst="rect">
            <a:avLst/>
          </a:prstGeom>
          <a:ln w="0">
            <a:noFill/>
          </a:ln>
        </p:spPr>
      </p:pic>
      <p:pic>
        <p:nvPicPr>
          <p:cNvPr id="257" name="g-hypy" descr=""/>
          <p:cNvPicPr/>
          <p:nvPr/>
        </p:nvPicPr>
        <p:blipFill>
          <a:blip r:embed="rId2"/>
          <a:stretch/>
        </p:blipFill>
        <p:spPr>
          <a:xfrm>
            <a:off x="6248520" y="3048120"/>
            <a:ext cx="2133360" cy="187776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2996640" y="4038480"/>
            <a:ext cx="3121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Georgia"/>
              </a:rPr>
              <a:t>FORMULAS: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259" name=""/>
          <p:cNvGraphicFramePr/>
          <p:nvPr/>
        </p:nvGraphicFramePr>
        <p:xfrm>
          <a:off x="609480" y="5029200"/>
          <a:ext cx="3353040" cy="110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9480" y="5029200"/>
                    <a:ext cx="3353040" cy="110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1" name=""/>
          <p:cNvGraphicFramePr/>
          <p:nvPr/>
        </p:nvGraphicFramePr>
        <p:xfrm>
          <a:off x="5272200" y="5105520"/>
          <a:ext cx="3475080" cy="1106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6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272200" y="5105520"/>
                    <a:ext cx="3475080" cy="110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8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03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8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13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990720" y="380988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Georgia"/>
              </a:rPr>
              <a:t>Circle – 2 squared terms with equal coefficient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990720" y="43434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Georgia"/>
              </a:rPr>
              <a:t>Parabola – one squared term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990720" y="496872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Georgia"/>
              </a:rPr>
              <a:t>Ellipse –2 squared terms with coefficients that are both      </a:t>
            </a:r>
            <a:r>
              <a:rPr b="0" lang="en-US" sz="2400" spc="-1" strike="noStrike">
                <a:solidFill>
                  <a:srgbClr val="40458c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Georgia"/>
              </a:rPr>
              <a:t>    positive or both negativ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990720" y="5791320"/>
            <a:ext cx="815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Georgia"/>
              </a:rPr>
              <a:t>Hyperbola –2 squared terms with one positive and one </a:t>
            </a:r>
            <a:r>
              <a:rPr b="0" lang="en-US" sz="2400" spc="-1" strike="noStrike">
                <a:solidFill>
                  <a:srgbClr val="40458c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Georgia"/>
              </a:rPr>
              <a:t>          negative coefficient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458c"/>
                </a:solidFill>
                <a:latin typeface="Georgia"/>
              </a:rPr>
              <a:t>Not all equations for conic sections are given in completed-square form.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85800" y="2057400"/>
            <a:ext cx="2362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28600" y="1584360"/>
            <a:ext cx="8610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458c"/>
                </a:solidFill>
                <a:latin typeface="Georgia"/>
              </a:rPr>
              <a:t>   </a:t>
            </a:r>
            <a:r>
              <a:rPr b="0" lang="en-US" sz="4000" spc="-1" strike="noStrike">
                <a:solidFill>
                  <a:srgbClr val="40458c"/>
                </a:solidFill>
                <a:latin typeface="Georgia"/>
              </a:rPr>
              <a:t>Identify each conic.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581280" y="222408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9x</a:t>
            </a:r>
            <a:r>
              <a:rPr b="0" lang="en-US" sz="2800" spc="-1" strike="noStrike" baseline="30000">
                <a:solidFill>
                  <a:srgbClr val="40458c"/>
                </a:solidFill>
                <a:latin typeface="Tahoma"/>
              </a:rPr>
              <a:t>2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+ 25y</a:t>
            </a:r>
            <a:r>
              <a:rPr b="0" lang="en-US" sz="2800" spc="-1" strike="noStrike" baseline="30000">
                <a:solidFill>
                  <a:srgbClr val="40458c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+ 36x – 150y + 36 = 0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290988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x</a:t>
            </a:r>
            <a:r>
              <a:rPr b="0" lang="en-US" sz="2800" spc="-1" strike="noStrike" baseline="30000">
                <a:solidFill>
                  <a:srgbClr val="40458c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+ y</a:t>
            </a:r>
            <a:r>
              <a:rPr b="0" lang="en-US" sz="2800" spc="-1" strike="noStrike" baseline="30000">
                <a:solidFill>
                  <a:srgbClr val="40458c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– 4x – 8y – 4 = 0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715000" y="29098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x</a:t>
            </a:r>
            <a:r>
              <a:rPr b="0" lang="en-US" sz="2800" spc="-1" strike="noStrike" baseline="30000">
                <a:solidFill>
                  <a:srgbClr val="40458c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– y = 5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09480" y="2224080"/>
            <a:ext cx="289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4x</a:t>
            </a:r>
            <a:r>
              <a:rPr b="0" lang="en-US" sz="2800" spc="-1" strike="noStrike" baseline="30000">
                <a:solidFill>
                  <a:srgbClr val="40458c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– 9y</a:t>
            </a:r>
            <a:r>
              <a:rPr b="0" lang="en-US" sz="2800" spc="-1" strike="noStrike" baseline="30000">
                <a:solidFill>
                  <a:srgbClr val="40458c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= 36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4" repeatCount="100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9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380880" y="533520"/>
            <a:ext cx="8458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Goudy Stout"/>
              </a:rPr>
              <a:t>IN SUMMARY…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762120" y="1676520"/>
            <a:ext cx="78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Arial Black"/>
              </a:rPr>
              <a:t>What are the four conic sections?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838080" y="2286000"/>
            <a:ext cx="723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Georgia"/>
              </a:rPr>
              <a:t>Circles, Parabolas, Ellipses, and Hyperbola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762120" y="31240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Arial Black"/>
              </a:rPr>
              <a:t>How are conic sections formed?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62120" y="373392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Georgia"/>
              </a:rPr>
              <a:t>By the intersection of a plane and a double con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62120" y="4343400"/>
            <a:ext cx="8001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Arial Black"/>
              </a:rPr>
              <a:t>What do “h” and “k” tell you about the graph?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62120" y="5486400"/>
            <a:ext cx="7162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Georgia"/>
              </a:rPr>
              <a:t>The location of the center (or vertex for parabolas)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4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5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6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1371600" y="1600200"/>
            <a:ext cx="6477120" cy="44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restart="whenNotActive" nodeType="interactiveSeq" fill="hold">
                <p:stCondLst>
                  <p:cond evt="onClick">
                    <p:tgtEl>
                      <p:spTgt spid="281"/>
                    </p:tgtEl>
                  </p:cond>
                </p:stCondLst>
                <p:childTnLst>
                  <p:par>
                    <p:cTn id="195" fill="hold">
                      <p:stCondLst>
                        <p:cond evt="onClick">
                          <p:tgtEl>
                            <p:spTgt spid="281"/>
                          </p:tgtEl>
                        </p:cond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98" dur="1" fill="hold"/>
                                        <p:tgtEl>
                                          <p:spTgt spid="2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685800" y="228600"/>
            <a:ext cx="777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Verdana"/>
              </a:rPr>
              <a:t>What are conic sections?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33520" y="914400"/>
            <a:ext cx="8001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0458c"/>
                </a:solidFill>
                <a:latin typeface="Tahoma"/>
              </a:rPr>
              <a:t>Conic sections are the intersection of a plane and a double cone.</a:t>
            </a:r>
            <a:endParaRPr b="0" lang="en-US" sz="21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13" name="cone-cir" descr=""/>
          <p:cNvPicPr/>
          <p:nvPr/>
        </p:nvPicPr>
        <p:blipFill>
          <a:blip r:embed="rId1"/>
          <a:stretch/>
        </p:blipFill>
        <p:spPr>
          <a:xfrm>
            <a:off x="0" y="1371600"/>
            <a:ext cx="1609560" cy="2317680"/>
          </a:xfrm>
          <a:prstGeom prst="rect">
            <a:avLst/>
          </a:prstGeom>
          <a:ln w="0">
            <a:noFill/>
          </a:ln>
        </p:spPr>
      </p:pic>
      <p:pic>
        <p:nvPicPr>
          <p:cNvPr id="214" name="cone-ell" descr=""/>
          <p:cNvPicPr/>
          <p:nvPr/>
        </p:nvPicPr>
        <p:blipFill>
          <a:blip r:embed="rId2"/>
          <a:stretch/>
        </p:blipFill>
        <p:spPr>
          <a:xfrm>
            <a:off x="7534440" y="1371600"/>
            <a:ext cx="1609560" cy="2317680"/>
          </a:xfrm>
          <a:prstGeom prst="rect">
            <a:avLst/>
          </a:prstGeom>
          <a:ln w="0">
            <a:noFill/>
          </a:ln>
        </p:spPr>
      </p:pic>
      <p:pic>
        <p:nvPicPr>
          <p:cNvPr id="215" name="cone-hyp" descr=""/>
          <p:cNvPicPr/>
          <p:nvPr/>
        </p:nvPicPr>
        <p:blipFill>
          <a:blip r:embed="rId3"/>
          <a:stretch/>
        </p:blipFill>
        <p:spPr>
          <a:xfrm>
            <a:off x="7534440" y="4267080"/>
            <a:ext cx="1609560" cy="2318040"/>
          </a:xfrm>
          <a:prstGeom prst="rect">
            <a:avLst/>
          </a:prstGeom>
          <a:ln w="0">
            <a:noFill/>
          </a:ln>
        </p:spPr>
      </p:pic>
      <p:pic>
        <p:nvPicPr>
          <p:cNvPr id="216" name="cone-par" descr=""/>
          <p:cNvPicPr/>
          <p:nvPr/>
        </p:nvPicPr>
        <p:blipFill>
          <a:blip r:embed="rId4"/>
          <a:stretch/>
        </p:blipFill>
        <p:spPr>
          <a:xfrm>
            <a:off x="0" y="4267080"/>
            <a:ext cx="1609560" cy="231804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609480" y="571500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e angle of the plane determines the type of conic section that results from the intersection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5"/>
          <a:stretch/>
        </p:blipFill>
        <p:spPr>
          <a:xfrm>
            <a:off x="1752480" y="1752480"/>
            <a:ext cx="5562720" cy="37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" dur="491044" fill="hold"/>
                                        <p:tgtEl>
                                          <p:spTgt spid="2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" restart="whenNotActive" nodeType="interactiveSeq" fill="hold">
                <p:stCondLst>
                  <p:cond evt="onClick">
                    <p:tgtEl>
                      <p:spTgt spid="218"/>
                    </p:tgtEl>
                  </p:cond>
                </p:stCondLst>
                <p:childTnLst>
                  <p:par>
                    <p:cTn id="17" fill="hold">
                      <p:stCondLst>
                        <p:cond evt="onClick">
                          <p:tgtEl>
                            <p:spTgt spid="218"/>
                          </p:tgtEl>
                        </p:cond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0" dur="1" fill="hold"/>
                                        <p:tgtEl>
                                          <p:spTgt spid="2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838080" y="30492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660066"/>
                </a:solidFill>
                <a:latin typeface="Goudy Stout"/>
              </a:rPr>
              <a:t>circle</a:t>
            </a:r>
            <a:endParaRPr b="0" lang="en-US" sz="72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20" name="cone-cir" descr=""/>
          <p:cNvPicPr/>
          <p:nvPr/>
        </p:nvPicPr>
        <p:blipFill>
          <a:blip r:embed="rId1"/>
          <a:stretch/>
        </p:blipFill>
        <p:spPr>
          <a:xfrm>
            <a:off x="838080" y="1676520"/>
            <a:ext cx="2963880" cy="426708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4191120" y="1981080"/>
            <a:ext cx="40384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58c"/>
                </a:solidFill>
                <a:latin typeface="Arial Black"/>
              </a:rPr>
              <a:t>A circle results when a plane intersects a double cone parallel to the cone’s bases.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682560" y="457200"/>
            <a:ext cx="7418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60066"/>
                </a:solidFill>
                <a:latin typeface="Georgia"/>
              </a:rPr>
              <a:t>MORE ON CIRCLES . . .</a:t>
            </a:r>
            <a:endParaRPr b="0" lang="en-US" sz="5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066680" y="1752480"/>
            <a:ext cx="723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 circle is defined as the set of all points equidistant from a given fixed point (center).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24" name="g-circle" descr=""/>
          <p:cNvPicPr/>
          <p:nvPr/>
        </p:nvPicPr>
        <p:blipFill>
          <a:blip r:embed="rId1"/>
          <a:stretch/>
        </p:blipFill>
        <p:spPr>
          <a:xfrm>
            <a:off x="990720" y="2819520"/>
            <a:ext cx="2971800" cy="267336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896720" y="3276720"/>
            <a:ext cx="284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Georgia"/>
              </a:rPr>
              <a:t>FORMULA: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4419720" y="4114800"/>
          <a:ext cx="3809880" cy="755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419720" y="4114800"/>
                    <a:ext cx="3809880" cy="75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8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8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8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8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685800" y="380880"/>
            <a:ext cx="8001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660066"/>
                </a:solidFill>
                <a:latin typeface="Goudy Stout"/>
              </a:rPr>
              <a:t>PARABOLA</a:t>
            </a:r>
            <a:endParaRPr b="0" lang="en-US" sz="60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29" name="cone-par" descr=""/>
          <p:cNvPicPr/>
          <p:nvPr/>
        </p:nvPicPr>
        <p:blipFill>
          <a:blip r:embed="rId1"/>
          <a:stretch/>
        </p:blipFill>
        <p:spPr>
          <a:xfrm>
            <a:off x="838080" y="1676520"/>
            <a:ext cx="3017880" cy="434340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4343400" y="1905120"/>
            <a:ext cx="40384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58c"/>
                </a:solidFill>
                <a:latin typeface="Arial Black"/>
              </a:rPr>
              <a:t>A parabola results when a plane intersects a double cone parallel to the cone’s side.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g-parx" descr=""/>
          <p:cNvPicPr/>
          <p:nvPr/>
        </p:nvPicPr>
        <p:blipFill>
          <a:blip r:embed="rId1"/>
          <a:stretch/>
        </p:blipFill>
        <p:spPr>
          <a:xfrm>
            <a:off x="7238880" y="4419720"/>
            <a:ext cx="1905120" cy="167616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430560" y="380880"/>
            <a:ext cx="8719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60066"/>
                </a:solidFill>
                <a:latin typeface="Georgia"/>
              </a:rPr>
              <a:t>MORE ON PARABOLAS . . .</a:t>
            </a:r>
            <a:endParaRPr b="0" lang="en-US" sz="5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914400" y="1523880"/>
            <a:ext cx="75438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 parabola is defined as the set of all points such that the distance between a point on the parabola and a fixed line (directrix) is the same as the distance between a point on the parabola and a fixed point (focus)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34" name="g-pary" descr=""/>
          <p:cNvPicPr/>
          <p:nvPr/>
        </p:nvPicPr>
        <p:blipFill>
          <a:blip r:embed="rId2"/>
          <a:stretch/>
        </p:blipFill>
        <p:spPr>
          <a:xfrm>
            <a:off x="0" y="4419720"/>
            <a:ext cx="1876320" cy="165096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2133720" y="380988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920320" y="3962520"/>
            <a:ext cx="3121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Georgia"/>
              </a:rPr>
              <a:t>FORMULAS: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2057400" y="5029200"/>
          <a:ext cx="2362320" cy="64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057400" y="5029200"/>
                    <a:ext cx="2362320" cy="64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9" name=""/>
          <p:cNvGraphicFramePr/>
          <p:nvPr/>
        </p:nvGraphicFramePr>
        <p:xfrm>
          <a:off x="4952880" y="5029200"/>
          <a:ext cx="2286000" cy="628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4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952880" y="5029200"/>
                    <a:ext cx="2286000" cy="62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685800" y="22860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09480" y="22860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660066"/>
                </a:solidFill>
                <a:latin typeface="Goudy Stout"/>
              </a:rPr>
              <a:t>Ellipse</a:t>
            </a:r>
            <a:endParaRPr b="0" lang="en-US" sz="72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43" name="cone-ell" descr=""/>
          <p:cNvPicPr/>
          <p:nvPr/>
        </p:nvPicPr>
        <p:blipFill>
          <a:blip r:embed="rId1"/>
          <a:stretch/>
        </p:blipFill>
        <p:spPr>
          <a:xfrm>
            <a:off x="838080" y="1676520"/>
            <a:ext cx="3016440" cy="434340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4267080" y="1828800"/>
            <a:ext cx="41911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Arial Black"/>
              </a:rPr>
              <a:t>An ellipse results when a plane intersects a double cone at some angle between parallel to the cone’s bases and sides.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649440" y="380880"/>
            <a:ext cx="7768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60066"/>
                </a:solidFill>
                <a:latin typeface="Georgia"/>
              </a:rPr>
              <a:t>MORE ON ELLIPSES . . .</a:t>
            </a:r>
            <a:endParaRPr b="0" lang="en-US" sz="5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838080" y="1676520"/>
            <a:ext cx="777240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n ellipse is defined as the set of all points such that the sum of distances from the point to each of the two fixed points (foci) is constant.</a:t>
            </a:r>
            <a:r>
              <a:rPr b="0" lang="en-US" sz="40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705600" y="4724280"/>
            <a:ext cx="284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Georgia"/>
              </a:rPr>
              <a:t>FORMULA: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390040" y="3124080"/>
            <a:ext cx="42908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6f89f7"/>
                </a:solidFill>
                <a:uFillTx/>
                <a:latin typeface="Georgia"/>
                <a:hlinkClick r:id="rId1"/>
              </a:rPr>
              <a:t>Animated Ellipse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3733920" y="4343400"/>
          <a:ext cx="4343400" cy="1455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733920" y="4343400"/>
                    <a:ext cx="4343400" cy="145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0" y="380880"/>
            <a:ext cx="8915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660066"/>
                </a:solidFill>
                <a:latin typeface="Goudy Stout"/>
              </a:rPr>
              <a:t>HYPERBOLA</a:t>
            </a:r>
            <a:endParaRPr b="0" lang="en-US" sz="60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52" name="cone-hyp" descr=""/>
          <p:cNvPicPr/>
          <p:nvPr/>
        </p:nvPicPr>
        <p:blipFill>
          <a:blip r:embed="rId1"/>
          <a:stretch/>
        </p:blipFill>
        <p:spPr>
          <a:xfrm>
            <a:off x="838080" y="1676520"/>
            <a:ext cx="2963880" cy="426708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4343400" y="2057400"/>
            <a:ext cx="38098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Arial Black"/>
              </a:rPr>
              <a:t>A hyperbola results when a plane intersects a double cone perpendicular to the cone’s bases.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08T01:00:27Z</dcterms:created>
  <dc:creator>Catherine J. Stone</dc:creator>
  <dc:description/>
  <dc:language>en-US</dc:language>
  <cp:lastModifiedBy>vandlaj</cp:lastModifiedBy>
  <dcterms:modified xsi:type="dcterms:W3CDTF">2005-07-20T16:13:55Z</dcterms:modified>
  <cp:revision>37</cp:revision>
  <dc:subject/>
  <dc:title>THE CONIC SECTIONS</dc:title>
</cp:coreProperties>
</file>