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25F7-256D-4B48-B9C4-4C7202B5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D1D8-2FD3-40BD-B7E6-A3C58727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1FFF-C6CC-44AA-9FE7-4C58EA81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0C3F-199A-413D-A805-4F2F440D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63CE-2D68-49C4-8691-6772F14D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6181-23F4-4A02-BE4A-AE28D979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169F-2C84-403B-B887-6769871D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D900-B71F-49E7-B4BF-8D415237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71E5-DB20-402B-8E08-D1ABA685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6CE4-A03D-4DD3-A743-29F484A0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B600-F001-402D-80D3-88DD1E63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9CDC-E92D-40D9-9BC7-B1DFDDE1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767A-E349-4082-8C3E-9B0BE24D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3266-3362-4C60-B89C-F0FEB735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01E3-3392-4764-92B6-E5C674E1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111B-9436-4D05-9733-2209B072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89E3-C3EF-4046-A7A1-FF88DB5D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6962-075C-4E87-A8A1-6546386E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FAFB-E233-4822-8367-2BDD6C3C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FEEC-A001-4F13-8FB1-F8119314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23A6-772C-484F-B2BE-CDF6E201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A5D5-6733-4996-AE32-C94E1D79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9D65-9E67-42A7-968E-61B49348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29F-BFC0-470C-801C-726110EA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496F-1563-4B3A-BBD7-046088EBD12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952B-4C98-4B1A-9C4D-46FFE36CE21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thworld.wolfram.com/Ellipse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81240" y="533160"/>
            <a:ext cx="9829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Broadway"/>
              </a:rPr>
              <a:t>THE CONIC SECTIONS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0" y="6095880"/>
            <a:ext cx="91440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RCLES - PARABOLAS – ELLIPSES -  HYPERBOL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1320" y="304920"/>
            <a:ext cx="915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Georgia"/>
              </a:rPr>
              <a:t>MORE ON HYPERBOLAS . . .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1676520"/>
            <a:ext cx="76197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hyperbola is defined as the set of all points such that the difference between the distances from the point to each of the two fixed points (foci) is constant.</a:t>
            </a:r>
            <a:r>
              <a:rPr b="0" lang="en-US" sz="4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6" name="g-hypx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2133720" cy="1877760"/>
          </a:xfrm>
          <a:prstGeom prst="rect">
            <a:avLst/>
          </a:prstGeom>
          <a:ln w="0">
            <a:noFill/>
          </a:ln>
        </p:spPr>
      </p:pic>
      <p:pic>
        <p:nvPicPr>
          <p:cNvPr id="257" name="g-hypy" descr=""/>
          <p:cNvPicPr/>
          <p:nvPr/>
        </p:nvPicPr>
        <p:blipFill>
          <a:blip r:embed="rId2"/>
          <a:stretch/>
        </p:blipFill>
        <p:spPr>
          <a:xfrm>
            <a:off x="6248520" y="3048120"/>
            <a:ext cx="2133360" cy="18777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996640" y="4038480"/>
            <a:ext cx="312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Georgia"/>
              </a:rPr>
              <a:t>FORMULAS: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09480" y="5029200"/>
          <a:ext cx="33530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5029200"/>
                    <a:ext cx="335304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272200" y="5105520"/>
          <a:ext cx="3475080" cy="110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72200" y="5105520"/>
                    <a:ext cx="3475080" cy="11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90720" y="3809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Circle – 2 squared terms with equal coefficien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4343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Parabola – one squared ter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4968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Ellipse –2 squared terms with coefficients that are both      </a:t>
            </a: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    positive or both negativ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57913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Hyperbola –2 squared terms with one positive and one </a:t>
            </a: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          negative coeffici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Georgia"/>
              </a:rPr>
              <a:t>Not all equations for conic sections are given in completed-square form.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362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158436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Georgia"/>
              </a:rPr>
              <a:t>   </a:t>
            </a:r>
            <a:r>
              <a:rPr b="0" lang="en-US" sz="4000" spc="-1" strike="noStrike">
                <a:solidFill>
                  <a:srgbClr val="40458c"/>
                </a:solidFill>
                <a:latin typeface="Georgia"/>
              </a:rPr>
              <a:t>Identify each conic.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2224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9x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+ 25y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+ 36x – 150y + 36 = 0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29098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+ y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– 4x – 8y – 4 = 0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2909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– y = 5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2224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4x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– 9y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= 3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0880" y="5335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Goudy Stout"/>
              </a:rPr>
              <a:t>IN SUMMARY…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16765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What are the four conic sections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22860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Circles, Parabolas, Ellipses, and Hyperbol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31240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How are conic sections formed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3733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By the intersection of a plane and a double c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43434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What do “h” and “k” tell you about the graph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54864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The location of the center (or vertex for parabola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7712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5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2286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Verdana"/>
              </a:rPr>
              <a:t>What are conic sections?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914400"/>
            <a:ext cx="8001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58c"/>
                </a:solidFill>
                <a:latin typeface="Tahoma"/>
              </a:rPr>
              <a:t>Conic sections are the intersection of a plane and a double cone.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3" name="cone-cir" descr=""/>
          <p:cNvPicPr/>
          <p:nvPr/>
        </p:nvPicPr>
        <p:blipFill>
          <a:blip r:embed="rId1"/>
          <a:stretch/>
        </p:blipFill>
        <p:spPr>
          <a:xfrm>
            <a:off x="0" y="1371600"/>
            <a:ext cx="1609560" cy="2317680"/>
          </a:xfrm>
          <a:prstGeom prst="rect">
            <a:avLst/>
          </a:prstGeom>
          <a:ln w="0">
            <a:noFill/>
          </a:ln>
        </p:spPr>
      </p:pic>
      <p:pic>
        <p:nvPicPr>
          <p:cNvPr id="214" name="cone-ell" descr=""/>
          <p:cNvPicPr/>
          <p:nvPr/>
        </p:nvPicPr>
        <p:blipFill>
          <a:blip r:embed="rId2"/>
          <a:stretch/>
        </p:blipFill>
        <p:spPr>
          <a:xfrm>
            <a:off x="7534440" y="1371600"/>
            <a:ext cx="1609560" cy="2317680"/>
          </a:xfrm>
          <a:prstGeom prst="rect">
            <a:avLst/>
          </a:prstGeom>
          <a:ln w="0">
            <a:noFill/>
          </a:ln>
        </p:spPr>
      </p:pic>
      <p:pic>
        <p:nvPicPr>
          <p:cNvPr id="215" name="cone-hyp" descr=""/>
          <p:cNvPicPr/>
          <p:nvPr/>
        </p:nvPicPr>
        <p:blipFill>
          <a:blip r:embed="rId3"/>
          <a:stretch/>
        </p:blipFill>
        <p:spPr>
          <a:xfrm>
            <a:off x="7534440" y="4267080"/>
            <a:ext cx="1609560" cy="2318040"/>
          </a:xfrm>
          <a:prstGeom prst="rect">
            <a:avLst/>
          </a:prstGeom>
          <a:ln w="0">
            <a:noFill/>
          </a:ln>
        </p:spPr>
      </p:pic>
      <p:pic>
        <p:nvPicPr>
          <p:cNvPr id="216" name="cone-par" descr=""/>
          <p:cNvPicPr/>
          <p:nvPr/>
        </p:nvPicPr>
        <p:blipFill>
          <a:blip r:embed="rId4"/>
          <a:stretch/>
        </p:blipFill>
        <p:spPr>
          <a:xfrm>
            <a:off x="0" y="4267080"/>
            <a:ext cx="1609560" cy="23180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09480" y="5715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angle of the plane determines the type of conic section that results from the intersec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1752480" y="1752480"/>
            <a:ext cx="55627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91044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3049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Goudy Stout"/>
              </a:rPr>
              <a:t>circle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0" name="cone-cir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963880" cy="4267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191120" y="198108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Arial Black"/>
              </a:rPr>
              <a:t>A circle results when a plane intersects a double cone parallel to the cone’s bases.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2560" y="457200"/>
            <a:ext cx="74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Georgia"/>
              </a:rPr>
              <a:t>MORE ON CIRCLES . . .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1752480"/>
            <a:ext cx="72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circle is defined as the set of all points equidistant from a given fixed point (center)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g-circle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2971800" cy="2673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896720" y="3276720"/>
            <a:ext cx="284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Georgia"/>
              </a:rPr>
              <a:t>FORMULA: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419720" y="4114800"/>
          <a:ext cx="3809880" cy="75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4114800"/>
                    <a:ext cx="38098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38088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Goudy Stout"/>
              </a:rPr>
              <a:t>PARABOLA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9" name="cone-par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3017880" cy="4343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343400" y="190512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Arial Black"/>
              </a:rPr>
              <a:t>A parabola results when a plane intersects a double cone parallel to the cone’s side.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g-parx" descr=""/>
          <p:cNvPicPr/>
          <p:nvPr/>
        </p:nvPicPr>
        <p:blipFill>
          <a:blip r:embed="rId1"/>
          <a:stretch/>
        </p:blipFill>
        <p:spPr>
          <a:xfrm>
            <a:off x="7238880" y="4419720"/>
            <a:ext cx="1905120" cy="16761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30560" y="380880"/>
            <a:ext cx="87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Georgia"/>
              </a:rPr>
              <a:t>MORE ON PARABOLAS . . .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1523880"/>
            <a:ext cx="754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parabola is defined as the set of all points such that the distance between a point on the parabola and a fixed line (directrix) is the same as the distance between a point on the parabola and a fixed point (focus)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4" name="g-pary" descr=""/>
          <p:cNvPicPr/>
          <p:nvPr/>
        </p:nvPicPr>
        <p:blipFill>
          <a:blip r:embed="rId2"/>
          <a:stretch/>
        </p:blipFill>
        <p:spPr>
          <a:xfrm>
            <a:off x="0" y="4419720"/>
            <a:ext cx="1876320" cy="16509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133720" y="38098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20320" y="3962520"/>
            <a:ext cx="312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Georgia"/>
              </a:rPr>
              <a:t>FORMULAS: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057400" y="5029200"/>
          <a:ext cx="2362320" cy="6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5029200"/>
                    <a:ext cx="236232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952880" y="5029200"/>
          <a:ext cx="228600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5029200"/>
                    <a:ext cx="22860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580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228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Goudy Stout"/>
              </a:rPr>
              <a:t>Ellipse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3" name="cone-ell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3016440" cy="4343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267080" y="1828800"/>
            <a:ext cx="4191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An ellipse results when a plane intersects a double cone at some angle between parallel to the cone’s bases and side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49440" y="380880"/>
            <a:ext cx="776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Georgia"/>
              </a:rPr>
              <a:t>MORE ON ELLIPSES . . .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1676520"/>
            <a:ext cx="77724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 ellipse is defined as the set of all points such that the sum of distances from the point to each of the two fixed points (foci) is constant.</a:t>
            </a:r>
            <a:r>
              <a:rPr b="0" lang="en-US" sz="4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5600" y="4724280"/>
            <a:ext cx="284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Georgia"/>
              </a:rPr>
              <a:t>FORMULA: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90040" y="3124080"/>
            <a:ext cx="4290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f89f7"/>
                </a:solidFill>
                <a:uFillTx/>
                <a:latin typeface="Georgia"/>
                <a:hlinkClick r:id="rId1"/>
              </a:rPr>
              <a:t>Animated Ellipse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733920" y="4343400"/>
          <a:ext cx="4343400" cy="145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4343400"/>
                    <a:ext cx="43434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38088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Goudy Stout"/>
              </a:rPr>
              <a:t>HYPERBOLA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cone-hyp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963880" cy="42670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343400" y="2057400"/>
            <a:ext cx="3809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A hyperbola results when a plane intersects a double cone perpendicular to the cone’s base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01:00:27Z</dcterms:created>
  <dc:creator>Catherine J. Stone</dc:creator>
  <dc:description/>
  <dc:language>en-US</dc:language>
  <cp:lastModifiedBy>vandlaj</cp:lastModifiedBy>
  <dcterms:modified xsi:type="dcterms:W3CDTF">2005-07-20T16:13:55Z</dcterms:modified>
  <cp:revision>37</cp:revision>
  <dc:subject/>
  <dc:title>THE CONIC SECTIONS</dc:title>
</cp:coreProperties>
</file>